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1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8E29-67F0-40E6-8AE5-E50C2D7E6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CE2D-EBB8-4BBA-A9AA-75FF4134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CADE-1C4F-477B-B5B6-FC2D43274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35D8-2777-4024-951D-A348A8342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6732-00EF-42A0-9309-808F17407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BAB3-652D-4914-BF72-D30AF17C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84F5-A969-4CF7-9971-3250E3F0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A45F-8AA3-48E3-B0FC-5C2BFE1B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3D0C-F22D-4DCA-917B-35D2BA20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7E50-E1D3-48AA-97F0-3C27B934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E623-3722-4A99-89A1-AB675456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CF2E-CB5B-4836-9B13-1C80C8DB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C3B0-9579-4D76-9DC0-F786A76A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1971-9ED5-4943-8287-B253952C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7CE6-4DDE-4D00-9376-B583A4B0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F3A9-4003-46F5-90F9-E1F5B188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051C-DA26-4E4A-93BB-E0D538B5A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DC568-591E-4374-B6D1-49A2F0AE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BEF88-25E0-4C48-8713-CA45D188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49D6A-ADFD-4557-9057-E956796E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E23CB-0545-4C1B-A41C-34B37E0A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F6E47-2770-4120-82F1-343E0145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94F6-7359-4DCE-851B-FB95F348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15407-3E05-4A6C-8BCA-E2D482E8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DCDDB-68E3-4D9E-B943-F50AA31F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640B2-6F6F-4C2B-BC62-6354DF6E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88072-D3AA-4FD3-95DE-B71FE0E7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73077-8B55-4271-B3A7-0BCDA5C6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C5B60-EB07-4258-B987-0BCF7EEC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EB828-7A2F-4206-AC23-E8C6F0EC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29DF8-1985-445C-9F7A-846F7E30F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13913-02DA-4E53-9419-E3E1F808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0E158-0685-4DE0-A9D6-4203CFF6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2FDC-452F-49B0-83D1-D605BEBB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F9713-6441-46F8-BF96-E01FAECE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602C1-C856-4C7E-87FE-1B7CC206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3BDBB-9B9B-4148-ACCE-2225E4FE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E4FDF-279F-4913-8E6A-4E0A9062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A8138-0E72-47FC-8302-D1BF7ACE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A7E3B-A249-4565-B47A-EA606A1C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88AF6-C91F-4372-9F2F-40773267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DA4DA-64BC-4ECA-8E6D-F511C12C9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A67AD-DEA2-4883-B7F7-228772598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1F071-8DF6-49CF-B58F-2E9465083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4FAC-9EF5-42CC-B02A-ECD8A87F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8A165-1A93-4870-9BAB-F4136B12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3877A-BE1C-4C3B-9C98-16EE7FCD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4700E-A594-4A5E-A0EE-1647EEDE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DE378-5604-4503-B258-5AB5C439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5A656-7B37-4335-85EA-51E06CFD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14137-3BDF-4678-98DE-E2378F4F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A845E-6C27-460C-BBAA-7F92CDC1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8D0C3-ED51-48FB-958C-E4360C28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A2254-A3E3-4D0E-94EF-3DD39BBF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B2473-3716-4B3C-B876-7091D5818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C078-E993-4ECA-9D05-3282694A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5D5AF-D9B6-4C52-9738-65F2028D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64F4-DE3C-41A1-8416-C7D60A75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C731-8B8B-42F6-8E1E-4775748E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EDF9-22D2-4DDB-9D1A-199E400D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c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437760" y="0"/>
              <a:ext cx="8706240" cy="34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7"/>
            <p:cNvSpPr/>
            <p:nvPr/>
          </p:nvSpPr>
          <p:spPr>
            <a:xfrm>
              <a:off x="0" y="5760"/>
              <a:ext cx="1825200" cy="6852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8"/>
            <p:cNvSpPr/>
            <p:nvPr/>
          </p:nvSpPr>
          <p:spPr>
            <a:xfrm>
              <a:off x="0" y="5760"/>
              <a:ext cx="1825200" cy="16747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10"/>
            <p:cNvSpPr/>
            <p:nvPr/>
          </p:nvSpPr>
          <p:spPr>
            <a:xfrm>
              <a:off x="494280" y="424800"/>
              <a:ext cx="836280" cy="83736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dddddd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b2b2b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CC5B-590C-492E-B51A-A987BB7618A2}" type="slidenum">
              <a:rPr b="0" lang="ru-RU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c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" name="Rectangle 6"/>
            <p:cNvSpPr/>
            <p:nvPr/>
          </p:nvSpPr>
          <p:spPr>
            <a:xfrm>
              <a:off x="0" y="0"/>
              <a:ext cx="1825200" cy="6858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7"/>
            <p:cNvSpPr/>
            <p:nvPr/>
          </p:nvSpPr>
          <p:spPr>
            <a:xfrm>
              <a:off x="0" y="2514600"/>
              <a:ext cx="1825200" cy="1828800"/>
            </a:xfrm>
            <a:prstGeom prst="rect">
              <a:avLst/>
            </a:prstGeom>
            <a:solidFill>
              <a:srgbClr val="b2b2b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Rectangle 8" descr=""/>
            <p:cNvPicPr/>
            <p:nvPr/>
          </p:nvPicPr>
          <p:blipFill>
            <a:blip r:embed="rId2"/>
            <a:stretch/>
          </p:blipFill>
          <p:spPr>
            <a:xfrm>
              <a:off x="1806840" y="2511360"/>
              <a:ext cx="7337160" cy="373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dddddd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b2b2b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93108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189216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4866840" y="655596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0C45-BDC3-49CD-99EE-DF90CD574E01}" type="slidenum">
              <a:rPr b="0" lang="ru-RU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c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10"/>
          <p:cNvGrpSpPr/>
          <p:nvPr/>
        </p:nvGrpSpPr>
        <p:grpSpPr>
          <a:xfrm>
            <a:off x="0" y="0"/>
            <a:ext cx="9144000" cy="1676520"/>
            <a:chOff x="0" y="0"/>
            <a:chExt cx="9144000" cy="1676520"/>
          </a:xfrm>
        </p:grpSpPr>
        <p:pic>
          <p:nvPicPr>
            <p:cNvPr id="92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Rectangle 8"/>
            <p:cNvSpPr/>
            <p:nvPr/>
          </p:nvSpPr>
          <p:spPr>
            <a:xfrm>
              <a:off x="18000" y="2880"/>
              <a:ext cx="1821240" cy="8204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"/>
            <p:cNvSpPr/>
            <p:nvPr/>
          </p:nvSpPr>
          <p:spPr>
            <a:xfrm>
              <a:off x="511560" y="208080"/>
              <a:ext cx="834840" cy="41004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dddddd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b2b2b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5B0B-E22D-4696-89B7-8F2DB68F221C}" type="slidenum">
              <a:rPr b="0" lang="ru-RU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c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9"/>
          <p:cNvGrpSpPr/>
          <p:nvPr/>
        </p:nvGrpSpPr>
        <p:grpSpPr>
          <a:xfrm>
            <a:off x="0" y="0"/>
            <a:ext cx="1828800" cy="1676520"/>
            <a:chOff x="0" y="0"/>
            <a:chExt cx="1828800" cy="1676520"/>
          </a:xfrm>
        </p:grpSpPr>
        <p:pic>
          <p:nvPicPr>
            <p:cNvPr id="137" name="Rectangle 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288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Oval 8"/>
            <p:cNvSpPr/>
            <p:nvPr/>
          </p:nvSpPr>
          <p:spPr>
            <a:xfrm>
              <a:off x="503280" y="208080"/>
              <a:ext cx="821880" cy="41004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dddddd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b2b2b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9EB2-0547-4E59-A87D-6F24D7D696F8}" type="slidenum">
              <a:rPr b="0" lang="ru-RU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c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1" name="Rectangle 1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34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Rectangle 18"/>
            <p:cNvSpPr/>
            <p:nvPr/>
          </p:nvSpPr>
          <p:spPr>
            <a:xfrm>
              <a:off x="7314120" y="5760"/>
              <a:ext cx="1823760" cy="6852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9"/>
            <p:cNvSpPr/>
            <p:nvPr/>
          </p:nvSpPr>
          <p:spPr>
            <a:xfrm>
              <a:off x="7314120" y="5760"/>
              <a:ext cx="1823760" cy="16747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20"/>
            <p:cNvSpPr/>
            <p:nvPr/>
          </p:nvSpPr>
          <p:spPr>
            <a:xfrm>
              <a:off x="7808040" y="424800"/>
              <a:ext cx="835920" cy="83736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dddddd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b2b2b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78487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7B6B-DC34-4893-ADA0-125945E89639}" type="slidenum">
              <a:rPr b="0" lang="ru-RU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4200" y="2565360"/>
            <a:ext cx="8786880" cy="17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Trebuchet MS"/>
              </a:rPr>
              <a:t>«ПРИЁМЫ ПОВЫШЕНИЯ УЧЕБНОЙ МОТИВАЦИИ НА УРОКАХ МАТЕМАТИКИ В НАЧАЛЬНЫХ КЛАССАХ»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TextBox 9"/>
          <p:cNvSpPr/>
          <p:nvPr/>
        </p:nvSpPr>
        <p:spPr>
          <a:xfrm flipV="1" rot="10788000">
            <a:off x="6121080" y="4946400"/>
            <a:ext cx="3019320" cy="14518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76320">
            <a:solidFill>
              <a:srgbClr val="eff4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начальных классов МБОУСОШ 4 им.В.В.Шитика ст.Атаманс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втун М.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4140360" y="23328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«Можно коня привести к водопою, но заставить его напиться нельзя…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Народная мудр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81000" y="27000"/>
            <a:ext cx="185580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ПРИЁМЫ, ИСПОЛЬЗУЕМЫЕ НА ЭТАПЕ МОТИВАЦИИ (ОРГ.МОМЕНТА)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Прямоугольник 143"/>
          <p:cNvSpPr/>
          <p:nvPr/>
        </p:nvSpPr>
        <p:spPr>
          <a:xfrm>
            <a:off x="383868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144"/>
          <p:cNvSpPr/>
          <p:nvPr/>
        </p:nvSpPr>
        <p:spPr>
          <a:xfrm>
            <a:off x="383868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51"/>
          <p:cNvGrpSpPr/>
          <p:nvPr/>
        </p:nvGrpSpPr>
        <p:grpSpPr>
          <a:xfrm>
            <a:off x="324000" y="1773360"/>
            <a:ext cx="5069880" cy="815400"/>
            <a:chOff x="324000" y="1773360"/>
            <a:chExt cx="5069880" cy="815400"/>
          </a:xfrm>
        </p:grpSpPr>
        <p:sp>
          <p:nvSpPr>
            <p:cNvPr id="234" name="AutoShape 52"/>
            <p:cNvSpPr/>
            <p:nvPr/>
          </p:nvSpPr>
          <p:spPr>
            <a:xfrm>
              <a:off x="757080" y="1773360"/>
              <a:ext cx="4636800" cy="8154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53"/>
            <p:cNvSpPr/>
            <p:nvPr/>
          </p:nvSpPr>
          <p:spPr>
            <a:xfrm>
              <a:off x="324000" y="1781640"/>
              <a:ext cx="685440" cy="735480"/>
            </a:xfrm>
            <a:prstGeom prst="diamond">
              <a:avLst/>
            </a:prstGeom>
            <a:solidFill>
              <a:srgbClr val="cc99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54"/>
            <p:cNvSpPr/>
            <p:nvPr/>
          </p:nvSpPr>
          <p:spPr>
            <a:xfrm>
              <a:off x="985680" y="183276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Поздороваемся ладошками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51"/>
          <p:cNvGrpSpPr/>
          <p:nvPr/>
        </p:nvGrpSpPr>
        <p:grpSpPr>
          <a:xfrm>
            <a:off x="395280" y="2637000"/>
            <a:ext cx="5073120" cy="869400"/>
            <a:chOff x="395280" y="2637000"/>
            <a:chExt cx="5073120" cy="869400"/>
          </a:xfrm>
        </p:grpSpPr>
        <p:sp>
          <p:nvSpPr>
            <p:cNvPr id="238" name="AutoShape 52"/>
            <p:cNvSpPr/>
            <p:nvPr/>
          </p:nvSpPr>
          <p:spPr>
            <a:xfrm>
              <a:off x="840960" y="2674800"/>
              <a:ext cx="4627440" cy="8316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53"/>
            <p:cNvSpPr/>
            <p:nvPr/>
          </p:nvSpPr>
          <p:spPr>
            <a:xfrm>
              <a:off x="395280" y="2710440"/>
              <a:ext cx="699840" cy="779760"/>
            </a:xfrm>
            <a:prstGeom prst="diamond">
              <a:avLst/>
            </a:prstGeom>
            <a:solidFill>
              <a:srgbClr val="cc99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54"/>
            <p:cNvSpPr/>
            <p:nvPr/>
          </p:nvSpPr>
          <p:spPr>
            <a:xfrm>
              <a:off x="683640" y="2637000"/>
              <a:ext cx="367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Подари подарок другу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55"/>
            <p:cNvSpPr/>
            <p:nvPr/>
          </p:nvSpPr>
          <p:spPr>
            <a:xfrm>
              <a:off x="534240" y="2778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51"/>
          <p:cNvGrpSpPr/>
          <p:nvPr/>
        </p:nvGrpSpPr>
        <p:grpSpPr>
          <a:xfrm>
            <a:off x="395280" y="3573360"/>
            <a:ext cx="5122800" cy="830160"/>
            <a:chOff x="395280" y="3573360"/>
            <a:chExt cx="5122800" cy="830160"/>
          </a:xfrm>
        </p:grpSpPr>
        <p:sp>
          <p:nvSpPr>
            <p:cNvPr id="243" name="AutoShape 52"/>
            <p:cNvSpPr/>
            <p:nvPr/>
          </p:nvSpPr>
          <p:spPr>
            <a:xfrm>
              <a:off x="890640" y="3573360"/>
              <a:ext cx="4627440" cy="8301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53"/>
            <p:cNvSpPr/>
            <p:nvPr/>
          </p:nvSpPr>
          <p:spPr>
            <a:xfrm>
              <a:off x="395280" y="3573360"/>
              <a:ext cx="755640" cy="757440"/>
            </a:xfrm>
            <a:prstGeom prst="diamond">
              <a:avLst/>
            </a:prstGeom>
            <a:solidFill>
              <a:srgbClr val="cc99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54"/>
            <p:cNvSpPr/>
            <p:nvPr/>
          </p:nvSpPr>
          <p:spPr>
            <a:xfrm>
              <a:off x="395280" y="3602160"/>
              <a:ext cx="416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Добро в ладошках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55"/>
            <p:cNvSpPr/>
            <p:nvPr/>
          </p:nvSpPr>
          <p:spPr>
            <a:xfrm>
              <a:off x="639720" y="365616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51"/>
          <p:cNvGrpSpPr/>
          <p:nvPr/>
        </p:nvGrpSpPr>
        <p:grpSpPr>
          <a:xfrm>
            <a:off x="324000" y="4437000"/>
            <a:ext cx="5127480" cy="787320"/>
            <a:chOff x="324000" y="4437000"/>
            <a:chExt cx="5127480" cy="787320"/>
          </a:xfrm>
        </p:grpSpPr>
        <p:sp>
          <p:nvSpPr>
            <p:cNvPr id="248" name="AutoShape 52"/>
            <p:cNvSpPr/>
            <p:nvPr/>
          </p:nvSpPr>
          <p:spPr>
            <a:xfrm>
              <a:off x="836640" y="4468680"/>
              <a:ext cx="4614840" cy="7556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53"/>
            <p:cNvSpPr/>
            <p:nvPr/>
          </p:nvSpPr>
          <p:spPr>
            <a:xfrm>
              <a:off x="324000" y="4437000"/>
              <a:ext cx="765360" cy="757080"/>
            </a:xfrm>
            <a:prstGeom prst="diamond">
              <a:avLst/>
            </a:prstGeom>
            <a:solidFill>
              <a:srgbClr val="cc99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54"/>
            <p:cNvSpPr/>
            <p:nvPr/>
          </p:nvSpPr>
          <p:spPr>
            <a:xfrm>
              <a:off x="900360" y="4508280"/>
              <a:ext cx="381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пиграф, притча, стих -настр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55"/>
            <p:cNvSpPr/>
            <p:nvPr/>
          </p:nvSpPr>
          <p:spPr>
            <a:xfrm>
              <a:off x="2041560" y="4544640"/>
              <a:ext cx="18432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51"/>
          <p:cNvGrpSpPr/>
          <p:nvPr/>
        </p:nvGrpSpPr>
        <p:grpSpPr>
          <a:xfrm>
            <a:off x="6012000" y="0"/>
            <a:ext cx="2896560" cy="6022080"/>
            <a:chOff x="6012000" y="0"/>
            <a:chExt cx="2896560" cy="6022080"/>
          </a:xfrm>
        </p:grpSpPr>
        <p:sp>
          <p:nvSpPr>
            <p:cNvPr id="253" name="AutoShape 52"/>
            <p:cNvSpPr/>
            <p:nvPr/>
          </p:nvSpPr>
          <p:spPr>
            <a:xfrm>
              <a:off x="6012000" y="1701360"/>
              <a:ext cx="2702520" cy="4320720"/>
            </a:xfrm>
            <a:custGeom>
              <a:avLst/>
              <a:gdLst>
                <a:gd name="textAreaLeft" fmla="*/ 131760 w 2702520"/>
                <a:gd name="textAreaRight" fmla="*/ 2570760 w 2702520"/>
                <a:gd name="textAreaTop" fmla="*/ 131760 h 4320720"/>
                <a:gd name="textAreaBottom" fmla="*/ 4188960 h 4320720"/>
              </a:gdLst>
              <a:ahLst/>
              <a:rect l="textAreaLeft" t="textAreaTop" r="textAreaRight" b="textAreaBottom"/>
              <a:pathLst>
                <a:path w="21600" h="34532">
                  <a:moveTo>
                    <a:pt x="3600" y="0"/>
                  </a:moveTo>
                  <a:arcTo wR="3600" hR="3600" stAng="16200000" swAng="-5400000"/>
                  <a:lnTo>
                    <a:pt x="0" y="30932"/>
                  </a:lnTo>
                  <a:arcTo wR="3600" hR="3600" stAng="10800000" swAng="-5400000"/>
                  <a:lnTo>
                    <a:pt x="18000" y="345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54"/>
            <p:cNvSpPr/>
            <p:nvPr/>
          </p:nvSpPr>
          <p:spPr>
            <a:xfrm>
              <a:off x="6082560" y="2010600"/>
              <a:ext cx="28260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озбуждает мыслительную активность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исциплинирует учащихся, позволяет им быстро включиться в работу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билизует внимание учащихся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лагоприятный психологический настрой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55"/>
            <p:cNvSpPr/>
            <p:nvPr/>
          </p:nvSpPr>
          <p:spPr>
            <a:xfrm>
              <a:off x="7363080" y="0"/>
              <a:ext cx="144360" cy="5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Правая фигурная скобка 42"/>
          <p:cNvSpPr/>
          <p:nvPr/>
        </p:nvSpPr>
        <p:spPr>
          <a:xfrm>
            <a:off x="5580000" y="1844640"/>
            <a:ext cx="357120" cy="312732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3127320"/>
              <a:gd name="textAreaBottom" fmla="*/ 3118320 h 312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3"/>
                  <a:pt x="10800" y="206"/>
                </a:cubicBezTo>
                <a:lnTo>
                  <a:pt x="10800" y="10594"/>
                </a:lnTo>
                <a:cubicBezTo>
                  <a:pt x="10800" y="10697"/>
                  <a:pt x="16200" y="10800"/>
                  <a:pt x="21600" y="10800"/>
                </a:cubicBezTo>
                <a:cubicBezTo>
                  <a:pt x="16200" y="10800"/>
                  <a:pt x="10800" y="10903"/>
                  <a:pt x="10800" y="11006"/>
                </a:cubicBezTo>
                <a:lnTo>
                  <a:pt x="10800" y="21394"/>
                </a:lnTo>
                <a:cubicBezTo>
                  <a:pt x="10800" y="2149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81000" y="27000"/>
            <a:ext cx="1809720" cy="15620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30" descr="81f8f05d-b6c9-44e8-a43f-6f8b39b0fda7.jpg"/>
          <p:cNvPicPr/>
          <p:nvPr/>
        </p:nvPicPr>
        <p:blipFill>
          <a:blip r:embed="rId2"/>
          <a:stretch/>
        </p:blipFill>
        <p:spPr>
          <a:xfrm>
            <a:off x="1974960" y="5224320"/>
            <a:ext cx="3468600" cy="16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071800" y="25992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ПРИЁМЫ, ИСПОЛЬЗУЕМЫЕ НА ЭТАПЕ АКТУАЛИЗАЦИИ ЗНАНИЙ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Равнобедренный треугольник 15"/>
          <p:cNvSpPr/>
          <p:nvPr/>
        </p:nvSpPr>
        <p:spPr>
          <a:xfrm rot="5400000">
            <a:off x="1129320" y="3742200"/>
            <a:ext cx="5049720" cy="1114560"/>
          </a:xfrm>
          <a:prstGeom prst="triangle">
            <a:avLst>
              <a:gd name="adj" fmla="val 50685"/>
            </a:avLst>
          </a:prstGeom>
          <a:solidFill>
            <a:srgbClr val="dddddd"/>
          </a:solidFill>
          <a:ln w="50760">
            <a:solidFill>
              <a:srgbClr val="aeae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81000" y="27000"/>
            <a:ext cx="1855800" cy="1601640"/>
          </a:xfrm>
          <a:prstGeom prst="rect">
            <a:avLst/>
          </a:prstGeom>
          <a:ln w="0">
            <a:noFill/>
          </a:ln>
        </p:spPr>
      </p:pic>
      <p:sp>
        <p:nvSpPr>
          <p:cNvPr id="262" name="Скругленный прямоугольник 2"/>
          <p:cNvSpPr/>
          <p:nvPr/>
        </p:nvSpPr>
        <p:spPr>
          <a:xfrm>
            <a:off x="147600" y="2644920"/>
            <a:ext cx="2754360" cy="726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50760">
            <a:solidFill>
              <a:srgbClr val="aeae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Согласен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 согласе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кругленный прямоугольник 3"/>
          <p:cNvSpPr/>
          <p:nvPr/>
        </p:nvSpPr>
        <p:spPr>
          <a:xfrm>
            <a:off x="182520" y="1828800"/>
            <a:ext cx="2719440" cy="727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50760">
            <a:solidFill>
              <a:srgbClr val="aeae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стный сч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Скругленный прямоугольник 16"/>
          <p:cNvSpPr/>
          <p:nvPr/>
        </p:nvSpPr>
        <p:spPr>
          <a:xfrm>
            <a:off x="147600" y="3451320"/>
            <a:ext cx="2754360" cy="726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50760">
            <a:solidFill>
              <a:srgbClr val="aeae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блемная ситу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кругленный прямоугольник 17"/>
          <p:cNvSpPr/>
          <p:nvPr/>
        </p:nvSpPr>
        <p:spPr>
          <a:xfrm>
            <a:off x="160200" y="4265640"/>
            <a:ext cx="2741760" cy="727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50760">
            <a:solidFill>
              <a:srgbClr val="aeae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законченная ф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Скругленный прямоугольник 18"/>
          <p:cNvSpPr/>
          <p:nvPr/>
        </p:nvSpPr>
        <p:spPr>
          <a:xfrm>
            <a:off x="147600" y="5072040"/>
            <a:ext cx="2754360" cy="725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50760">
            <a:solidFill>
              <a:srgbClr val="aeae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Найди ошибк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Скругленный прямоугольник 19"/>
          <p:cNvSpPr/>
          <p:nvPr/>
        </p:nvSpPr>
        <p:spPr>
          <a:xfrm>
            <a:off x="147600" y="5877000"/>
            <a:ext cx="2754360" cy="8697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50760">
            <a:solidFill>
              <a:srgbClr val="aeae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квей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20"/>
          <p:cNvSpPr/>
          <p:nvPr/>
        </p:nvSpPr>
        <p:spPr>
          <a:xfrm>
            <a:off x="4284720" y="1700280"/>
            <a:ext cx="457200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живляют» познавательную деятельность уча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ют подготовить обучающихся к осуществлению  самостоятельной деятельн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ность школьников к восприятию нового материа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казывать свою точку зрени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о воспринимать чужое м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4"/>
          <p:cNvSpPr/>
          <p:nvPr/>
        </p:nvSpPr>
        <p:spPr>
          <a:xfrm>
            <a:off x="4643280" y="1773360"/>
            <a:ext cx="4176720" cy="4032000"/>
          </a:xfrm>
          <a:prstGeom prst="rect">
            <a:avLst/>
          </a:prstGeom>
          <a:solidFill>
            <a:srgbClr val="dddddd"/>
          </a:solidFill>
          <a:ln w="50760">
            <a:solidFill>
              <a:srgbClr val="aeae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rebuchet MS"/>
              </a:rPr>
              <a:t>ПРИЁМЫ, ИСПОЛЬЗУЕМЫЕ НА ЭТАПЕ АКТУАЛИЗАЦИИ ЗНАНИЙ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81000" y="27000"/>
            <a:ext cx="1855800" cy="160164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3"/>
          <p:cNvSpPr/>
          <p:nvPr/>
        </p:nvSpPr>
        <p:spPr>
          <a:xfrm>
            <a:off x="5076720" y="1844640"/>
            <a:ext cx="3456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АЯ СИТУ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2класс, тема «Связь умножения со сложением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+2+2=, 3+3+3+3+3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м действием можно заменить сумму, чтобы получить верное равенств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·2·2·2·2·2=, 3·3·3·3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ли способ замены произведения другим действие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ает проблем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аким действием можно заменить произведение нескольких одинаковых множител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5"/>
          <p:cNvSpPr/>
          <p:nvPr/>
        </p:nvSpPr>
        <p:spPr>
          <a:xfrm>
            <a:off x="611280" y="1773360"/>
            <a:ext cx="3384360" cy="2592360"/>
          </a:xfrm>
          <a:prstGeom prst="rect">
            <a:avLst/>
          </a:prstGeom>
          <a:solidFill>
            <a:srgbClr val="dddddd"/>
          </a:solidFill>
          <a:ln w="50760">
            <a:solidFill>
              <a:srgbClr val="aeae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ен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оглас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класс, тема «Класс единиц, класс тысяч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е 7320   7тысяч, 3сотни, 2еди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е 145312, 145 относится к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у, 312 к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лассу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Рисунок 6" descr="img12.jpg"/>
          <p:cNvPicPr/>
          <p:nvPr/>
        </p:nvPicPr>
        <p:blipFill>
          <a:blip r:embed="rId2"/>
          <a:stretch/>
        </p:blipFill>
        <p:spPr>
          <a:xfrm>
            <a:off x="390600" y="4572000"/>
            <a:ext cx="4187880" cy="2090880"/>
          </a:xfrm>
          <a:prstGeom prst="rect">
            <a:avLst/>
          </a:prstGeom>
          <a:ln w="0">
            <a:noFill/>
          </a:ln>
        </p:spPr>
      </p:pic>
      <p:sp>
        <p:nvSpPr>
          <p:cNvPr id="275" name="TextBox 7"/>
          <p:cNvSpPr/>
          <p:nvPr/>
        </p:nvSpPr>
        <p:spPr>
          <a:xfrm>
            <a:off x="1403280" y="436572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квей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ПРИЁМЫ, ИСПОЛЬЗУЕМЫЕ НА ЭТАПЕ РЕФЛЕКСИИ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Прямоугольник с двумя скругленными противолежащими углами 7"/>
          <p:cNvSpPr/>
          <p:nvPr/>
        </p:nvSpPr>
        <p:spPr>
          <a:xfrm>
            <a:off x="179280" y="4292640"/>
            <a:ext cx="1903680" cy="647640"/>
          </a:xfrm>
          <a:prstGeom prst="pie">
            <a:avLst/>
          </a:prstGeom>
          <a:solidFill>
            <a:srgbClr val="cc99ff"/>
          </a:solidFill>
          <a:ln w="50760">
            <a:solidFill>
              <a:srgbClr val="aeae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хвал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с двумя скругленными противолежащими углами 8"/>
          <p:cNvSpPr/>
          <p:nvPr/>
        </p:nvSpPr>
        <p:spPr>
          <a:xfrm>
            <a:off x="4643280" y="4292640"/>
            <a:ext cx="1903680" cy="647640"/>
          </a:xfrm>
          <a:prstGeom prst="pie">
            <a:avLst/>
          </a:prstGeom>
          <a:solidFill>
            <a:srgbClr val="cc99ff"/>
          </a:solidFill>
          <a:ln w="50760">
            <a:solidFill>
              <a:srgbClr val="aeae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с двумя скругленными противолежащими углами 9"/>
          <p:cNvSpPr/>
          <p:nvPr/>
        </p:nvSpPr>
        <p:spPr>
          <a:xfrm>
            <a:off x="2411280" y="4292640"/>
            <a:ext cx="1903680" cy="647640"/>
          </a:xfrm>
          <a:prstGeom prst="pie">
            <a:avLst/>
          </a:prstGeom>
          <a:solidFill>
            <a:srgbClr val="cc99ff"/>
          </a:solidFill>
          <a:ln w="50760">
            <a:solidFill>
              <a:srgbClr val="aeae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имент сосе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с двумя скругленными противолежащими углами 11"/>
          <p:cNvSpPr/>
          <p:nvPr/>
        </p:nvSpPr>
        <p:spPr>
          <a:xfrm>
            <a:off x="0" y="5229360"/>
            <a:ext cx="9039240" cy="1533240"/>
          </a:xfrm>
          <a:prstGeom prst="pie">
            <a:avLst/>
          </a:prstGeom>
          <a:solidFill>
            <a:srgbClr val="cc99ff"/>
          </a:solidFill>
          <a:ln w="507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управлять собственной активностью в соответствии с личностными ценностями и смыслами;  формировать и переключаться на новые механизмы в связи с изменившимися условиями деятельности; находить социально ценные, личностно значимые и реальные способы реализации себя в общении и ученическ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81000" y="27000"/>
            <a:ext cx="1838160" cy="158580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14"/>
          <p:cNvSpPr/>
          <p:nvPr/>
        </p:nvSpPr>
        <p:spPr>
          <a:xfrm>
            <a:off x="1042920" y="2637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с двумя скругленными противолежащими углами 16"/>
          <p:cNvSpPr/>
          <p:nvPr/>
        </p:nvSpPr>
        <p:spPr>
          <a:xfrm>
            <a:off x="6804000" y="4292640"/>
            <a:ext cx="1903320" cy="647640"/>
          </a:xfrm>
          <a:prstGeom prst="pie">
            <a:avLst/>
          </a:prstGeom>
          <a:solidFill>
            <a:srgbClr val="cc99ff"/>
          </a:solidFill>
          <a:ln w="50760">
            <a:solidFill>
              <a:srgbClr val="aeae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и фиг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Рисунок 17" descr="Безымянный.jpg"/>
          <p:cNvPicPr/>
          <p:nvPr/>
        </p:nvPicPr>
        <p:blipFill>
          <a:blip r:embed="rId2"/>
          <a:stretch/>
        </p:blipFill>
        <p:spPr>
          <a:xfrm>
            <a:off x="4780080" y="1841400"/>
            <a:ext cx="3541680" cy="212724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10" descr="137a53c5-88ae-4d3c-bd22-cc2dc57b7527.jpg"/>
          <p:cNvPicPr/>
          <p:nvPr/>
        </p:nvPicPr>
        <p:blipFill>
          <a:blip r:embed="rId3"/>
          <a:stretch/>
        </p:blipFill>
        <p:spPr>
          <a:xfrm>
            <a:off x="822240" y="1908000"/>
            <a:ext cx="349416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81000" y="27000"/>
            <a:ext cx="1771560" cy="1530360"/>
          </a:xfrm>
          <a:prstGeom prst="rect">
            <a:avLst/>
          </a:prstGeom>
          <a:ln w="0">
            <a:noFill/>
          </a:ln>
        </p:spPr>
      </p:pic>
      <p:sp>
        <p:nvSpPr>
          <p:cNvPr id="288" name="Скругленный прямоугольник 26"/>
          <p:cNvSpPr/>
          <p:nvPr/>
        </p:nvSpPr>
        <p:spPr>
          <a:xfrm>
            <a:off x="3780000" y="2276640"/>
            <a:ext cx="5182920" cy="345744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50760">
            <a:solidFill>
              <a:srgbClr val="aeae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25"/>
          <p:cNvSpPr/>
          <p:nvPr/>
        </p:nvSpPr>
        <p:spPr>
          <a:xfrm>
            <a:off x="4140360" y="2565360"/>
            <a:ext cx="4535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ая мотивация является основой успешности урока, толчком к самореализации каждого учащегося на уроке, главной движущей силой, формирующей интерес к уро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Прямая со стрелкой 6"/>
          <p:cNvCxnSpPr/>
          <p:nvPr/>
        </p:nvCxnSpPr>
        <p:spPr>
          <a:xfrm flipH="1" flipV="1">
            <a:off x="2268360" y="2349000"/>
            <a:ext cx="1440360" cy="216720"/>
          </a:xfrm>
          <a:prstGeom prst="straightConnector1">
            <a:avLst/>
          </a:prstGeom>
          <a:ln w="50760">
            <a:solidFill>
              <a:srgbClr val="595959"/>
            </a:solidFill>
            <a:miter/>
            <a:tailEnd len="med" type="arrow" w="med"/>
          </a:ln>
        </p:spPr>
      </p:cxnSp>
      <p:sp>
        <p:nvSpPr>
          <p:cNvPr id="291" name="Овал 7"/>
          <p:cNvSpPr/>
          <p:nvPr/>
        </p:nvSpPr>
        <p:spPr>
          <a:xfrm>
            <a:off x="179280" y="1844640"/>
            <a:ext cx="2089080" cy="1079640"/>
          </a:xfrm>
          <a:prstGeom prst="ellipse">
            <a:avLst/>
          </a:prstGeom>
          <a:solidFill>
            <a:srgbClr val="dddddd"/>
          </a:solidFill>
          <a:ln w="50760">
            <a:solidFill>
              <a:srgbClr val="aeae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лечение большего количества обучающихся в олимпиа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Прямая со стрелкой 8"/>
          <p:cNvCxnSpPr/>
          <p:nvPr/>
        </p:nvCxnSpPr>
        <p:spPr>
          <a:xfrm flipH="1">
            <a:off x="2194920" y="3715920"/>
            <a:ext cx="1440360" cy="1080"/>
          </a:xfrm>
          <a:prstGeom prst="straightConnector1">
            <a:avLst/>
          </a:prstGeom>
          <a:ln w="50760">
            <a:solidFill>
              <a:srgbClr val="595959"/>
            </a:solidFill>
            <a:miter/>
            <a:tailEnd len="med" type="arrow" w="med"/>
          </a:ln>
        </p:spPr>
      </p:cxnSp>
      <p:sp>
        <p:nvSpPr>
          <p:cNvPr id="293" name="Овал 10"/>
          <p:cNvSpPr/>
          <p:nvPr/>
        </p:nvSpPr>
        <p:spPr>
          <a:xfrm>
            <a:off x="179280" y="3068640"/>
            <a:ext cx="1944720" cy="1224000"/>
          </a:xfrm>
          <a:prstGeom prst="ellipse">
            <a:avLst/>
          </a:prstGeom>
          <a:solidFill>
            <a:srgbClr val="dddddd"/>
          </a:solidFill>
          <a:ln w="50760">
            <a:solidFill>
              <a:srgbClr val="aeae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качества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Прямая со стрелкой 11"/>
          <p:cNvCxnSpPr/>
          <p:nvPr/>
        </p:nvCxnSpPr>
        <p:spPr>
          <a:xfrm flipH="1">
            <a:off x="2194920" y="5013000"/>
            <a:ext cx="1440360" cy="1080"/>
          </a:xfrm>
          <a:prstGeom prst="straightConnector1">
            <a:avLst/>
          </a:prstGeom>
          <a:ln w="50760">
            <a:solidFill>
              <a:srgbClr val="595959"/>
            </a:solidFill>
            <a:miter/>
            <a:tailEnd len="med" type="arrow" w="med"/>
          </a:ln>
        </p:spPr>
      </p:cxnSp>
      <p:sp>
        <p:nvSpPr>
          <p:cNvPr id="295" name="Овал 12"/>
          <p:cNvSpPr/>
          <p:nvPr/>
        </p:nvSpPr>
        <p:spPr>
          <a:xfrm>
            <a:off x="179280" y="4437000"/>
            <a:ext cx="2016360" cy="1152720"/>
          </a:xfrm>
          <a:prstGeom prst="ellipse">
            <a:avLst/>
          </a:prstGeom>
          <a:solidFill>
            <a:srgbClr val="dddddd"/>
          </a:solidFill>
          <a:ln w="50760">
            <a:solidFill>
              <a:srgbClr val="aeae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ые эмоции от полученных зн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Прямая со стрелкой 13"/>
          <p:cNvCxnSpPr/>
          <p:nvPr/>
        </p:nvCxnSpPr>
        <p:spPr>
          <a:xfrm flipH="1">
            <a:off x="2484000" y="5877000"/>
            <a:ext cx="1224720" cy="289440"/>
          </a:xfrm>
          <a:prstGeom prst="straightConnector1">
            <a:avLst/>
          </a:prstGeom>
          <a:ln w="50760">
            <a:solidFill>
              <a:srgbClr val="595959"/>
            </a:solidFill>
            <a:miter/>
            <a:tailEnd len="med" type="arrow" w="med"/>
          </a:ln>
        </p:spPr>
      </p:cxnSp>
      <p:sp>
        <p:nvSpPr>
          <p:cNvPr id="297" name="Овал 15"/>
          <p:cNvSpPr/>
          <p:nvPr/>
        </p:nvSpPr>
        <p:spPr>
          <a:xfrm>
            <a:off x="179280" y="5661000"/>
            <a:ext cx="2016360" cy="1008000"/>
          </a:xfrm>
          <a:prstGeom prst="ellipse">
            <a:avLst/>
          </a:prstGeom>
          <a:solidFill>
            <a:srgbClr val="dddddd"/>
          </a:solidFill>
          <a:ln w="50760">
            <a:solidFill>
              <a:srgbClr val="aeae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сех видов У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81000" y="27000"/>
            <a:ext cx="1771560" cy="153036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4" descr="image_57c753a138c7d.gif"/>
          <p:cNvPicPr/>
          <p:nvPr/>
        </p:nvPicPr>
        <p:blipFill>
          <a:blip r:embed="rId2"/>
          <a:stretch/>
        </p:blipFill>
        <p:spPr>
          <a:xfrm>
            <a:off x="1763640" y="1428840"/>
            <a:ext cx="54291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20:20:17Z</dcterms:created>
  <dc:creator>User</dc:creator>
  <dc:description/>
  <dc:language>en-US</dc:language>
  <cp:lastModifiedBy>1</cp:lastModifiedBy>
  <dcterms:modified xsi:type="dcterms:W3CDTF">2020-10-16T12:41:05Z</dcterms:modified>
  <cp:revision>503</cp:revision>
  <dc:subject/>
  <dc:title>Слайд 1</dc:title>
</cp:coreProperties>
</file>